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5AB3-DDC9-4A2C-99B2-7C1477AC3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6B2B-57E7-48E1-97C4-D3011C6F7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D907-8734-4CFB-B9C1-28EF4CEE6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0C79-6D47-4ABB-8877-E11C706F8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B498-0C8D-44FE-9454-5BE600092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D033-F640-47E2-B32C-CB17CEB24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8E67-681F-4613-A62A-00CD1D31E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9843-3212-41B3-99F6-FD8426F7C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41E2-F682-4A4B-B5B8-5D06CDB92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0D41-2B68-4622-A743-D213554D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66E0-DFD1-4A2F-85DC-94C2CE44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5DBE-9FAE-4261-9158-42C6D949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333399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D1785-A685-4875-BB22-307A03F08E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333399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4538520" cy="4648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219320" y="0"/>
            <a:ext cx="5462640" cy="28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ffcc66"/>
                    </a:gs>
                    <a:gs pos="100000">
                      <a:srgbClr val="ff99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San José, Costa Rica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ffcc66"/>
                  </a:gs>
                  <a:gs pos="100000">
                    <a:srgbClr val="ff99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191120" y="5562720"/>
            <a:ext cx="3657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277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ffcc66"/>
                    </a:gs>
                    <a:gs pos="100000">
                      <a:srgbClr val="ff99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Dylan Montgomery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ffcc66"/>
                  </a:gs>
                  <a:gs pos="100000">
                    <a:srgbClr val="ff99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29200" y="2895480"/>
            <a:ext cx="228600" cy="2286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333399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Bodoni MT Black"/>
              </a:rPr>
              <a:t>Descripción Físi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Continente – América Cent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Países Vecinos – Panamá al sur y Nicaragua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al </a:t>
            </a:r>
            <a:r>
              <a:rPr b="0" lang="es-MX" sz="2800" spc="-1" strike="noStrike">
                <a:solidFill>
                  <a:srgbClr val="ff9900"/>
                </a:solidFill>
                <a:latin typeface="Arial"/>
              </a:rPr>
              <a:t>norte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El Clima – Tropical  con un grado promedio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de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19 grados en el invierno y un grado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promedio de 22 en la primav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La Geografía – Montañoso con una playa en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cada co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Arquitectura – Colonial España y moder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333399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4910400" cy="3681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057040" y="3885840"/>
            <a:ext cx="7086600" cy="2971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Número de Habitants – 1,527,300 perso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Porcentaje de Pobreza – 6.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Porcentaje de Alfabetismo – 9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Religion Oficial – Católico Roman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Idioma Oficial - Españ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 rot="21144600">
            <a:off x="3809520" y="761760"/>
            <a:ext cx="456264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stadísticas de San Jos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333399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038480" y="0"/>
            <a:ext cx="5105520" cy="40370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4038480"/>
            <a:ext cx="9144000" cy="2819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9900"/>
                </a:solidFill>
                <a:latin typeface="Arial"/>
              </a:rPr>
              <a:t>Museos – </a:t>
            </a:r>
            <a:r>
              <a:rPr b="0" lang="es-ES_tradnl" sz="2700" spc="-1" strike="noStrike">
                <a:solidFill>
                  <a:srgbClr val="ff9900"/>
                </a:solidFill>
                <a:latin typeface="Arial"/>
              </a:rPr>
              <a:t>el Museo de Oro Precolombino y el </a:t>
            </a:r>
            <a:r>
              <a:rPr b="0" lang="es-ES_tradnl" sz="27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s-ES_tradnl" sz="2700" spc="-1" strike="noStrike">
                <a:solidFill>
                  <a:srgbClr val="ff9900"/>
                </a:solidFill>
                <a:latin typeface="Arial"/>
              </a:rPr>
              <a:t>Museo de Jade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9900"/>
                </a:solidFill>
                <a:latin typeface="Arial"/>
              </a:rPr>
              <a:t>Lugares de Interés – </a:t>
            </a:r>
            <a:r>
              <a:rPr b="0" lang="es-ES_tradnl" sz="2700" spc="-1" strike="noStrike">
                <a:solidFill>
                  <a:srgbClr val="ff9900"/>
                </a:solidFill>
                <a:latin typeface="Arial"/>
              </a:rPr>
              <a:t>el Parque Nacional del</a:t>
            </a:r>
            <a:r>
              <a:rPr b="0" lang="es-ES_tradnl" sz="27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s-ES_tradnl" sz="2700" spc="-1" strike="noStrike">
                <a:solidFill>
                  <a:srgbClr val="ff9900"/>
                </a:solidFill>
                <a:latin typeface="Arial"/>
              </a:rPr>
              <a:t>Volcán </a:t>
            </a:r>
            <a:r>
              <a:rPr b="0" lang="es-ES_tradnl" sz="27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s-ES_tradnl" sz="2700" spc="-1" strike="noStrike">
                <a:solidFill>
                  <a:srgbClr val="ff9900"/>
                </a:solidFill>
                <a:latin typeface="Arial"/>
              </a:rPr>
              <a:t>Poas y el Parque Nacional de Barra Honda</a:t>
            </a:r>
            <a:r>
              <a:rPr b="0" lang="en-US" sz="27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9900"/>
                </a:solidFill>
                <a:latin typeface="Arial"/>
              </a:rPr>
              <a:t>Fiestas Tradicionales – </a:t>
            </a:r>
            <a:r>
              <a:rPr b="0" lang="es-ES_tradnl" sz="2700" spc="-1" strike="noStrike">
                <a:solidFill>
                  <a:srgbClr val="ff9900"/>
                </a:solidFill>
                <a:latin typeface="Arial"/>
              </a:rPr>
              <a:t>Semana Santa y el Dos de </a:t>
            </a:r>
            <a:r>
              <a:rPr b="0" lang="es-ES_tradnl" sz="27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s-ES_tradnl" sz="2700" spc="-1" strike="noStrike">
                <a:solidFill>
                  <a:srgbClr val="ff9900"/>
                </a:solidFill>
                <a:latin typeface="Arial"/>
              </a:rPr>
              <a:t>Agosto</a:t>
            </a:r>
            <a:r>
              <a:rPr b="0" lang="en-US" sz="27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80880" y="990720"/>
            <a:ext cx="4724640" cy="14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cc66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Información Cultural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9900"/>
                  </a:gs>
                  <a:gs pos="100000">
                    <a:srgbClr val="ffcc66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333399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Bodoni MT Black"/>
              </a:rPr>
              <a:t>Información Cultur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3962160"/>
            <a:ext cx="9144000" cy="2895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Pletos y Bebidas Típicas – </a:t>
            </a:r>
            <a:r>
              <a:rPr b="0" lang="es-ES_tradnl" sz="2800" spc="-1" strike="noStrike">
                <a:solidFill>
                  <a:srgbClr val="ff9900"/>
                </a:solidFill>
                <a:latin typeface="Arial"/>
              </a:rPr>
              <a:t>gallo pinto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y </a:t>
            </a:r>
            <a:r>
              <a:rPr b="0" lang="es-ES_tradnl" sz="2800" spc="-1" strike="noStrike">
                <a:solidFill>
                  <a:srgbClr val="ff9900"/>
                </a:solidFill>
                <a:latin typeface="Arial"/>
              </a:rPr>
              <a:t>muchos </a:t>
            </a:r>
            <a:r>
              <a:rPr b="0" lang="es-ES_tradnl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9900"/>
                </a:solidFill>
                <a:latin typeface="Arial"/>
              </a:rPr>
              <a:t>frijoles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Un Personaje Famoso - </a:t>
            </a:r>
            <a:r>
              <a:rPr b="0" lang="es-ES_tradnl" sz="2800" spc="-1" strike="noStrike">
                <a:solidFill>
                  <a:srgbClr val="ff9900"/>
                </a:solidFill>
                <a:latin typeface="Arial"/>
              </a:rPr>
              <a:t>el pintor Francisco </a:t>
            </a:r>
            <a:r>
              <a:rPr b="0" lang="es-ES_tradnl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9900"/>
                </a:solidFill>
                <a:latin typeface="Arial"/>
              </a:rPr>
              <a:t>Amighetti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00"/>
                </a:solidFill>
                <a:latin typeface="Arial"/>
              </a:rPr>
              <a:t>Una razón  para visitar San José es que Costa Rica </a:t>
            </a:r>
            <a:r>
              <a:rPr b="0" lang="es-ES_tradnl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9900"/>
                </a:solidFill>
                <a:latin typeface="Arial"/>
              </a:rPr>
              <a:t>es un país muy bonito con flores tropicales y </a:t>
            </a:r>
            <a:r>
              <a:rPr b="0" lang="es-ES_tradnl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9900"/>
                </a:solidFill>
                <a:latin typeface="Arial"/>
              </a:rPr>
              <a:t>animales especia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2819160" cy="2143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791320" y="1676520"/>
            <a:ext cx="190476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4:35:58Z</dcterms:created>
  <dc:creator>HP Authorized Customer</dc:creator>
  <dc:description/>
  <dc:language>en-US</dc:language>
  <cp:lastModifiedBy>HP Authorized Customer</cp:lastModifiedBy>
  <dcterms:modified xsi:type="dcterms:W3CDTF">2008-02-27T18:46:53Z</dcterms:modified>
  <cp:revision>4</cp:revision>
  <dc:subject/>
  <dc:title>Slide 1</dc:title>
</cp:coreProperties>
</file>